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997F-A2EA-4312-A2E3-7221FD4B1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8362-2F65-4A07-B06E-EE97B284E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9DA4-3C0F-4306-BD1D-ECFB44FC3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30E7-C02F-4E4A-8C7E-FB0B545EE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DC24-8E23-4E93-8B86-89C040EA4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F6C7-A54A-4B56-B883-025CDFA9D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CBA0-525E-4D58-90D1-03D42B32D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151D-32FF-4A9C-A22D-B3A95A9CF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7965-8D4E-403A-A4DE-ADE3337E0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475A-04A0-427A-9060-462D762F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ABF2-C501-4549-9872-38757E0E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B412-26C4-45A9-83E8-8A912D97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AAFAB-1C31-453B-87D0-D2ACA38FC7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Karri Vaugh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Greek city-stat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http://t1.gstatic.com/images?q=tbn:ANd9GcTMuzDGDziWFtL0CEXMNcNlXm8bw69qkAOX4hkIkCKKKuXAOt8oVi_YTn36DQ"/>
          <p:cNvPicPr/>
          <p:nvPr/>
        </p:nvPicPr>
        <p:blipFill>
          <a:blip r:embed="rId1"/>
          <a:stretch/>
        </p:blipFill>
        <p:spPr>
          <a:xfrm>
            <a:off x="533520" y="2209680"/>
            <a:ext cx="761976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ilosoph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study of wisdom and the right way to liv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AutoShape 5"/>
          <p:cNvSpPr/>
          <p:nvPr/>
        </p:nvSpPr>
        <p:spPr>
          <a:xfrm>
            <a:off x="63360" y="-419040"/>
            <a:ext cx="125748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63360" y="-419040"/>
            <a:ext cx="125748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http://t2.gstatic.com/images?q=tbn:ANd9GcS5zl6vRmfhkmtf-m-_o9ZNJw7AQk-LycUkSHq7gIYO8hvQtNIuQQ"/>
          <p:cNvPicPr/>
          <p:nvPr/>
        </p:nvPicPr>
        <p:blipFill>
          <a:blip r:embed="rId1"/>
          <a:stretch/>
        </p:blipFill>
        <p:spPr>
          <a:xfrm>
            <a:off x="533520" y="2438280"/>
            <a:ext cx="73152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ninsul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 area of land nearly surrounded by wate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http://t0.gstatic.com/images?q=tbn:ANd9GcTlhzGssrsqN0MA-MoOdow1hCAhl8cGiDQQ37IYoeTevyDQcu_apQ"/>
          <p:cNvPicPr/>
          <p:nvPr/>
        </p:nvPicPr>
        <p:blipFill>
          <a:blip r:embed="rId1"/>
          <a:stretch/>
        </p:blipFill>
        <p:spPr>
          <a:xfrm>
            <a:off x="914400" y="2514600"/>
            <a:ext cx="80010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loponnesian Wa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war between Athens and Sparta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http://t3.gstatic.com/images?q=tbn:ANd9GcSibAbnNXDMZ9OhTksf6iitDS_5xY4BEvSuBjoUObRIHUgO4lXRtg"/>
          <p:cNvPicPr/>
          <p:nvPr/>
        </p:nvPicPr>
        <p:blipFill>
          <a:blip r:embed="rId1"/>
          <a:stretch/>
        </p:blipFill>
        <p:spPr>
          <a:xfrm>
            <a:off x="1295280" y="2895480"/>
            <a:ext cx="662940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igarch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kind of government that is run by a small group of peopl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http://t3.gstatic.com/images?q=tbn:ANd9GcRBU0KbgNTMGeynISfTnTF54SOZnVwWF0BhSmplVc2QzI8YBBDj9w"/>
          <p:cNvPicPr/>
          <p:nvPr/>
        </p:nvPicPr>
        <p:blipFill>
          <a:blip r:embed="rId1"/>
          <a:stretch/>
        </p:blipFill>
        <p:spPr>
          <a:xfrm>
            <a:off x="2209680" y="3352680"/>
            <a:ext cx="4953240" cy="23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b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sheltered place along a coastlin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5" descr="http://t1.gstatic.com/images?q=tbn:ANd9GcRhSbQOyLwCVOsVMEWhsvGr_8Q_ILzpI4IpcQzalLHkKuye1gnc"/>
          <p:cNvPicPr/>
          <p:nvPr/>
        </p:nvPicPr>
        <p:blipFill>
          <a:blip r:embed="rId1"/>
          <a:stretch/>
        </p:blipFill>
        <p:spPr>
          <a:xfrm>
            <a:off x="1295280" y="2590920"/>
            <a:ext cx="60962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http://t1.gstatic.com/images?q=tbn:ANd9GcR4kQQ58XZFpcVZnaNTnUdWuuCGtApfXec-ybGrvi5Cq30UZEgzCQ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or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lace where Greeks meet and conduct busines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http://t3.gstatic.com/images?q=tbn:ANd9GcRTAB9bofA4KGPTL8drs1uVh57mBgWVzs25XxLgm7himqTfxyHm"/>
          <p:cNvPicPr/>
          <p:nvPr/>
        </p:nvPicPr>
        <p:blipFill>
          <a:blip r:embed="rId1"/>
          <a:stretch/>
        </p:blipFill>
        <p:spPr>
          <a:xfrm>
            <a:off x="457200" y="1981080"/>
            <a:ext cx="807732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mbly 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lawmaking place where people voted on issues that helped their city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t1.gstatic.com/images?q=tbn:ANd9GcRAql_D7GSSFXfVjtoPeMQVNg7f76VFzdzSSAqOtuOsOoE_4weo4g"/>
          <p:cNvPicPr/>
          <p:nvPr/>
        </p:nvPicPr>
        <p:blipFill>
          <a:blip r:embed="rId1"/>
          <a:stretch/>
        </p:blipFill>
        <p:spPr>
          <a:xfrm>
            <a:off x="762120" y="2928960"/>
            <a:ext cx="708660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4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iz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person who has certain rights and responsibilities to his or her country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t3.gstatic.com/images?q=tbn:ANd9GcQwwBDPGW91wlS580J9fjpQGlAAWXtZua_D9jCBiY2MN5POn6ws"/>
          <p:cNvPicPr/>
          <p:nvPr/>
        </p:nvPicPr>
        <p:blipFill>
          <a:blip r:embed="rId1"/>
          <a:stretch/>
        </p:blipFill>
        <p:spPr>
          <a:xfrm>
            <a:off x="1219320" y="2819520"/>
            <a:ext cx="64767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n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group of people who lived apart from Greece but kept economic ties with i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http://t2.gstatic.com/images?q=tbn:ANd9GcTOOD1cu_7JTu4N-PxhaaY8pjQaWgJDWBGKPSKOktOAM7YXAZ6UvA"/>
          <p:cNvPicPr/>
          <p:nvPr/>
        </p:nvPicPr>
        <p:blipFill>
          <a:blip r:embed="rId1"/>
          <a:stretch/>
        </p:blipFill>
        <p:spPr>
          <a:xfrm>
            <a:off x="533520" y="2895480"/>
            <a:ext cx="7772400" cy="35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ocrac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form of government where people vote to make deci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http://t1.gstatic.com/images?q=tbn:ANd9GcTP8qmkxS1ITrzSmkROXXmGbwf6lN_gi_Bj0YNNo7vsK-HobLwh"/>
          <p:cNvPicPr/>
          <p:nvPr/>
        </p:nvPicPr>
        <p:blipFill>
          <a:blip r:embed="rId1"/>
          <a:stretch/>
        </p:blipFill>
        <p:spPr>
          <a:xfrm>
            <a:off x="1523880" y="2895480"/>
            <a:ext cx="678204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y hear evidence and make decisions in a court of law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ttp://t3.gstatic.com/images?q=tbn:ANd9GcRVwGYFooOi2bMHRC3243gBQz2wwAQtMSsL_r09-YP9ane3oAKp"/>
          <p:cNvPicPr/>
          <p:nvPr/>
        </p:nvPicPr>
        <p:blipFill>
          <a:blip r:embed="rId1"/>
          <a:stretch/>
        </p:blipFill>
        <p:spPr>
          <a:xfrm>
            <a:off x="304920" y="2743200"/>
            <a:ext cx="84582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arch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vernment headed by one ruler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http://t0.gstatic.com/images?q=tbn:ANd9GcQ69RVR0z2ktf-xNDLsEGNAOKIdiiGD5nB14TEBkhORZH84Z42KwA"/>
          <p:cNvPicPr/>
          <p:nvPr/>
        </p:nvPicPr>
        <p:blipFill>
          <a:blip r:embed="rId1"/>
          <a:stretch/>
        </p:blipFill>
        <p:spPr>
          <a:xfrm>
            <a:off x="1066680" y="1981080"/>
            <a:ext cx="632484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BHISD</cp:lastModifiedBy>
  <dcterms:modified xsi:type="dcterms:W3CDTF">2012-03-08T15:51:11Z</dcterms:modified>
  <cp:revision>97</cp:revision>
  <dc:subject/>
  <dc:title>Ancient Greece</dc:title>
</cp:coreProperties>
</file>